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9.jpeg" ContentType="image/jpeg"/>
  <Override PartName="/ppt/media/image36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35.jpeg" ContentType="image/jpeg"/>
  <Override PartName="/ppt/media/image1.jpeg" ContentType="image/jpeg"/>
  <Override PartName="/ppt/media/image41.jpeg" ContentType="image/jpeg"/>
  <Override PartName="/ppt/media/image1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213F-E1F1-4EB3-B761-26D9330B4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58FD-2A86-4402-9E25-14F66547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92DC-7A78-45BF-8BB3-B4CDC50D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B5BF-D5B4-4FD2-9AF9-2BFC722C3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71C8-7985-4549-9448-3AD56000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25E0-2BF6-4CBA-8BB4-693C9D46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963A-0E4C-4F36-9082-06414E1F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81CF-F6A5-4F6D-BAA0-545E031A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AE20-5E80-4FAF-94B6-B1EB8A8E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E734-91AC-4996-96B2-4B462977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11D0-3250-4DA9-8E01-5DF43A71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4FA9-F141-4516-994F-F19C6122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9E65-A040-4AD9-9479-04AFC055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6B66-44C1-4119-A0BC-4EAE2ECE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1DB9-A3B8-4C9E-B38C-4A36FE77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53ED-CEE0-4189-9E03-52866B7BE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4937-ECC3-4DCE-8299-FC08C019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C5527-E90C-4923-A442-B84941F3F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70575-44F3-40A1-A7EF-FD66CD64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94952-2EC0-4DF2-A77D-8CD407D6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3F959-7D45-44C6-A132-8C318796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5EDE8-B01F-4D16-9C84-AD0EF528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9C0A-9B67-4433-B08C-BDC3EAB5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97F24-0688-4EDE-ABF8-0EB6EB5E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49E72-8180-4541-A472-BF4B4658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710D3-727D-4F11-8BD5-003DED70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7955F-801F-430E-99DF-31A71EEC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4E9EC-CF3E-44D6-B03E-97F9B4F8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DA46D-316B-42DC-AA85-172515D7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CF7D9-9D38-4CD3-BF97-8F20DB36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EE767-5E8C-43CA-ABF8-B96B49F2F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0DC2F-1300-4382-AD63-5CF3EDE5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54B05-8216-4D1C-9EF0-D6B4E9C1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A5E5-AADC-41FE-88FE-C26F3C10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6C0F4-7E39-4C2A-8AA4-2196219F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23B28-39ED-4416-B18F-7A22B0AA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2EE81-08A3-4B48-B04D-6C1AEDF0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514C1-BF4B-42EC-A8A5-F2D90AB3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D62E5-59FF-43FB-B46C-D840A1C0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D50F9-7E32-4371-818E-29CA3096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AD873-98ED-4DCA-A72B-A372E8C2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A57BC-8DBF-422B-A331-9960B708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66FAF-D308-4429-950E-C5274D1BD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2AE8-EB8C-4D92-BE14-D1ED945B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9DD7-58A6-4569-A4A5-4E4AA1D3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9518-753B-4E3C-9DC3-B2821C0F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FB16-9BFD-488B-AB90-A4C977B8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C225-5109-446D-B29B-81CFC422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1e51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0A416B-2AA7-4646-9FD0-0F1AAE70AA95}" type="slidenum">
              <a:rPr b="0" lang="en-US" sz="28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f7f7f7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f7f7f7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1e51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6A6C35-AA80-465F-A40C-42B4960ED2E5}" type="slidenum">
              <a:rPr b="0" lang="en-US" sz="28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f7f7f7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f7f7f7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1e51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1616D2-D0DC-4408-8035-D239820BC736}" type="slidenum">
              <a:rPr b="0" lang="en-US" sz="28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f7f7f7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f7f7f7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1e51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5A279D-EB7F-4DBA-BEE0-4B8B8471B137}" type="slidenum">
              <a:rPr b="0" lang="en-US" sz="28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66520" y="1447560"/>
            <a:ext cx="730548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1" lang="en-US" sz="4000" spc="-1" strike="noStrike">
                <a:solidFill>
                  <a:srgbClr val="1e5155"/>
                </a:solidFill>
                <a:latin typeface="Calibri"/>
              </a:rPr>
              <a:t>КАВИТЕТА I</a:t>
            </a:r>
            <a:r>
              <a:rPr b="1" lang="sr-Latn-RS" sz="4000" spc="-1" strike="noStrike">
                <a:solidFill>
                  <a:srgbClr val="1e5155"/>
                </a:solidFill>
                <a:latin typeface="Calibri"/>
              </a:rPr>
              <a:t>V</a:t>
            </a:r>
            <a:r>
              <a:rPr b="1" lang="en-US" sz="4000" spc="-1" strike="noStrike">
                <a:solidFill>
                  <a:srgbClr val="1e5155"/>
                </a:solidFill>
                <a:latin typeface="Calibri"/>
              </a:rPr>
              <a:t> КЛАСЕ</a:t>
            </a:r>
            <a:endParaRPr b="0" lang="en-US" sz="40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866880" y="4776840"/>
            <a:ext cx="661968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5828"/>
                </a:solidFill>
                <a:latin typeface="Calibri"/>
              </a:rPr>
              <a:t>ПРЕПАРАЦИЈА КАВИТЕТА IV КЛАСЕ.</a:t>
            </a:r>
            <a:r>
              <a:rPr b="0" lang="sr-Latn-RS" sz="1900" spc="-1" strike="noStrike">
                <a:solidFill>
                  <a:srgbClr val="005828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5828"/>
                </a:solidFill>
                <a:latin typeface="Calibri"/>
              </a:rPr>
              <a:t>ВАРИЈАНТЕ КАВИТЕТА IV КЛАСЕ: СА ГИНГИВАСЛНИМ</a:t>
            </a:r>
            <a:r>
              <a:rPr b="0" lang="sr-Latn-RS" sz="1900" spc="-1" strike="noStrike">
                <a:solidFill>
                  <a:srgbClr val="005828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5828"/>
                </a:solidFill>
                <a:latin typeface="Calibri"/>
              </a:rPr>
              <a:t>СТЕПЕНИКОМ, СА ИНЦИЗАЛНИМ СТРЕПЕНИКОМ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РЕТЕНЦИЈ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64" name="Content Placeholder 2"/>
          <p:cNvSpPr/>
          <p:nvPr/>
        </p:nvSpPr>
        <p:spPr>
          <a:xfrm>
            <a:off x="484200" y="1467000"/>
            <a:ext cx="658656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макромеханичка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Ластин реп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етенциони жљебов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етенционе тачк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арапулпни кочић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нални кочић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Content Placeholder 3"/>
          <p:cNvSpPr/>
          <p:nvPr/>
        </p:nvSpPr>
        <p:spPr>
          <a:xfrm>
            <a:off x="484200" y="4819680"/>
            <a:ext cx="5302080" cy="18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микромеханичк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7% фосфорна кис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елин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66" name="Picture 2" descr="http://pocketdentistry.com/wp-content/uploads/285/img0357.jpg"/>
          <p:cNvPicPr/>
          <p:nvPr/>
        </p:nvPicPr>
        <p:blipFill>
          <a:blip r:embed="rId1"/>
          <a:stretch/>
        </p:blipFill>
        <p:spPr>
          <a:xfrm>
            <a:off x="6781680" y="1467000"/>
            <a:ext cx="1935360" cy="2236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sakiselinom"/>
          <p:cNvPicPr/>
          <p:nvPr/>
        </p:nvPicPr>
        <p:blipFill>
          <a:blip r:embed="rId2"/>
          <a:stretch/>
        </p:blipFill>
        <p:spPr>
          <a:xfrm>
            <a:off x="4741920" y="3922560"/>
            <a:ext cx="426564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ЛАСТИН РЕП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69" name="Content Placeholder 2"/>
          <p:cNvSpPr/>
          <p:nvPr/>
        </p:nvSpPr>
        <p:spPr>
          <a:xfrm>
            <a:off x="484200" y="1467000"/>
            <a:ext cx="609444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Ластин реп треба да се налази у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средњој тећини инцизо- гингивног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промера крунице зуба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јер не угрожава инцизалну ивицуу нити пулпу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мезио-дисталном правцу код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већих зуба до медијалне линије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а код мањих прелзи м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дијалну линију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Одупире се мазио-дисталним и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естибуло-оралним силама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Зидови су: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пулпни, инцизални, гингивални, апроксимални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Биолошки облик кавитета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70" name="Picture 1" descr=""/>
          <p:cNvPicPr/>
          <p:nvPr/>
        </p:nvPicPr>
        <p:blipFill>
          <a:blip r:embed="rId1"/>
          <a:stretch/>
        </p:blipFill>
        <p:spPr>
          <a:xfrm>
            <a:off x="6754680" y="1165320"/>
            <a:ext cx="2279880" cy="3097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"/>
          <p:cNvPicPr/>
          <p:nvPr/>
        </p:nvPicPr>
        <p:blipFill>
          <a:blip r:embed="rId2"/>
          <a:stretch/>
        </p:blipFill>
        <p:spPr>
          <a:xfrm>
            <a:off x="6578640" y="4262400"/>
            <a:ext cx="236700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МАКРОМАХЕНИЧКА РЕТЕНЦИЈ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pic>
        <p:nvPicPr>
          <p:cNvPr id="273" name="Picture 1" descr=""/>
          <p:cNvPicPr/>
          <p:nvPr/>
        </p:nvPicPr>
        <p:blipFill>
          <a:blip r:embed="rId1"/>
          <a:stretch/>
        </p:blipFill>
        <p:spPr>
          <a:xfrm>
            <a:off x="4930920" y="1467000"/>
            <a:ext cx="2609640" cy="29811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sD11 copy"/>
          <p:cNvPicPr/>
          <p:nvPr/>
        </p:nvPicPr>
        <p:blipFill>
          <a:blip r:embed="rId2"/>
          <a:stretch/>
        </p:blipFill>
        <p:spPr>
          <a:xfrm>
            <a:off x="3268800" y="4448160"/>
            <a:ext cx="2971800" cy="22305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"/>
          <p:cNvPicPr/>
          <p:nvPr/>
        </p:nvPicPr>
        <p:blipFill>
          <a:blip r:embed="rId3"/>
          <a:stretch/>
        </p:blipFill>
        <p:spPr>
          <a:xfrm>
            <a:off x="1717560" y="1467000"/>
            <a:ext cx="257976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sD5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МАКРОМАХЕНИЧКА РЕТЕНЦИЈ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pic>
        <p:nvPicPr>
          <p:cNvPr id="278" name="Picture 4" descr="4Kl02"/>
          <p:cNvPicPr/>
          <p:nvPr/>
        </p:nvPicPr>
        <p:blipFill>
          <a:blip r:embed="rId1"/>
          <a:stretch/>
        </p:blipFill>
        <p:spPr>
          <a:xfrm>
            <a:off x="5610240" y="1725480"/>
            <a:ext cx="2865600" cy="37465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" descr=""/>
          <p:cNvPicPr/>
          <p:nvPr/>
        </p:nvPicPr>
        <p:blipFill>
          <a:blip r:embed="rId2"/>
          <a:stretch/>
        </p:blipFill>
        <p:spPr>
          <a:xfrm>
            <a:off x="731880" y="1779480"/>
            <a:ext cx="401472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МАКРОМАХЕНИЧКА РЕТЕНЦИЈ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pic>
        <p:nvPicPr>
          <p:cNvPr id="281" name="Picture 2" descr="Rezultat slika za incisor fracture frc post"/>
          <p:cNvPicPr/>
          <p:nvPr/>
        </p:nvPicPr>
        <p:blipFill>
          <a:blip r:embed="rId1"/>
          <a:stretch/>
        </p:blipFill>
        <p:spPr>
          <a:xfrm>
            <a:off x="2584440" y="1305000"/>
            <a:ext cx="3600360" cy="2647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58680" y="4127400"/>
            <a:ext cx="88902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pic>
        <p:nvPicPr>
          <p:cNvPr id="284" name="Picture 2" descr="http://www.styleitaliano.org/uploaded_images/articles/11203/b65b4af0.jpg"/>
          <p:cNvPicPr/>
          <p:nvPr/>
        </p:nvPicPr>
        <p:blipFill>
          <a:blip r:embed="rId1"/>
          <a:stretch/>
        </p:blipFill>
        <p:spPr>
          <a:xfrm>
            <a:off x="231840" y="1419120"/>
            <a:ext cx="2948040" cy="19656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http://www.styleitaliano.org/uploaded_images/articles/11203/f257dbf4.jpg"/>
          <p:cNvPicPr/>
          <p:nvPr/>
        </p:nvPicPr>
        <p:blipFill>
          <a:blip r:embed="rId2"/>
          <a:stretch/>
        </p:blipFill>
        <p:spPr>
          <a:xfrm>
            <a:off x="3322800" y="1419120"/>
            <a:ext cx="2887560" cy="1970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http://www.styleitaliano.org/uploaded_images/articles/11203/baa7c43f.jpg"/>
          <p:cNvPicPr/>
          <p:nvPr/>
        </p:nvPicPr>
        <p:blipFill>
          <a:blip r:embed="rId3"/>
          <a:stretch/>
        </p:blipFill>
        <p:spPr>
          <a:xfrm>
            <a:off x="6332400" y="1419120"/>
            <a:ext cx="2660760" cy="1965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8" descr="http://www.styleitaliano.org/uploaded_images/articles/11203/adfe31db.jpg"/>
          <p:cNvPicPr/>
          <p:nvPr/>
        </p:nvPicPr>
        <p:blipFill>
          <a:blip r:embed="rId4"/>
          <a:stretch/>
        </p:blipFill>
        <p:spPr>
          <a:xfrm>
            <a:off x="231840" y="3603600"/>
            <a:ext cx="2948040" cy="19652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0" descr="http://www.styleitaliano.org/uploaded_images/articles/11203/ea3da0d9.jpg"/>
          <p:cNvPicPr/>
          <p:nvPr/>
        </p:nvPicPr>
        <p:blipFill>
          <a:blip r:embed="rId5"/>
          <a:stretch/>
        </p:blipFill>
        <p:spPr>
          <a:xfrm>
            <a:off x="3322800" y="3603600"/>
            <a:ext cx="2873160" cy="19702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2" descr="http://www.styleitaliano.org/uploaded_images/articles/11203/b82667a0.jpg"/>
          <p:cNvPicPr/>
          <p:nvPr/>
        </p:nvPicPr>
        <p:blipFill>
          <a:blip r:embed="rId6"/>
          <a:stretch/>
        </p:blipFill>
        <p:spPr>
          <a:xfrm>
            <a:off x="6332400" y="3603600"/>
            <a:ext cx="262116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pic>
        <p:nvPicPr>
          <p:cNvPr id="291" name="Picture 2" descr="http://www.styleitaliano.org/uploaded_images/articles/11203/dffc34f8.jpg"/>
          <p:cNvPicPr/>
          <p:nvPr/>
        </p:nvPicPr>
        <p:blipFill>
          <a:blip r:embed="rId1"/>
          <a:stretch/>
        </p:blipFill>
        <p:spPr>
          <a:xfrm>
            <a:off x="231840" y="1438200"/>
            <a:ext cx="2935080" cy="19749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http://www.styleitaliano.org/uploaded_images/articles/11203/c48673ce.jpg"/>
          <p:cNvPicPr/>
          <p:nvPr/>
        </p:nvPicPr>
        <p:blipFill>
          <a:blip r:embed="rId2"/>
          <a:stretch/>
        </p:blipFill>
        <p:spPr>
          <a:xfrm>
            <a:off x="3300480" y="1438200"/>
            <a:ext cx="2859120" cy="19749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http://www.styleitaliano.org/uploaded_images/articles/11203/e7330b8e.jpg"/>
          <p:cNvPicPr/>
          <p:nvPr/>
        </p:nvPicPr>
        <p:blipFill>
          <a:blip r:embed="rId3"/>
          <a:stretch/>
        </p:blipFill>
        <p:spPr>
          <a:xfrm>
            <a:off x="6265800" y="1452600"/>
            <a:ext cx="2687760" cy="19652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http://www.styleitaliano.org/uploaded_images/articles/11203/e051cce6.jpg"/>
          <p:cNvPicPr/>
          <p:nvPr/>
        </p:nvPicPr>
        <p:blipFill>
          <a:blip r:embed="rId4"/>
          <a:stretch/>
        </p:blipFill>
        <p:spPr>
          <a:xfrm>
            <a:off x="231840" y="3562200"/>
            <a:ext cx="3610080" cy="2406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0" descr="http://www.styleitaliano.org/uploaded_images/articles/11203/a6d9bbfa.jpg"/>
          <p:cNvPicPr/>
          <p:nvPr/>
        </p:nvPicPr>
        <p:blipFill>
          <a:blip r:embed="rId5"/>
          <a:stretch/>
        </p:blipFill>
        <p:spPr>
          <a:xfrm>
            <a:off x="4081320" y="3562200"/>
            <a:ext cx="4872240" cy="24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ХВАЛА НА ПАЖЊ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ЛОКАЛИЗ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КАВИТЕТА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21840" y="1466640"/>
            <a:ext cx="493884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проксималне површине предњих зуба са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штећењем инцизалног уг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огу настати 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о последица каријесног процеса или механичког оштећењ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5" descr="DelovanjeSila01"/>
          <p:cNvPicPr/>
          <p:nvPr/>
        </p:nvPicPr>
        <p:blipFill>
          <a:blip r:embed="rId1"/>
          <a:stretch/>
        </p:blipFill>
        <p:spPr>
          <a:xfrm>
            <a:off x="4913280" y="4229280"/>
            <a:ext cx="4032360" cy="23810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Rezultat slika za tooth clas iv cavity"/>
          <p:cNvPicPr/>
          <p:nvPr/>
        </p:nvPicPr>
        <p:blipFill>
          <a:blip r:embed="rId2"/>
          <a:stretch/>
        </p:blipFill>
        <p:spPr>
          <a:xfrm>
            <a:off x="322200" y="4440240"/>
            <a:ext cx="4486320" cy="2170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http://pocketdentistry.com/wp-content/uploads/285/img0367.jpg"/>
          <p:cNvPicPr/>
          <p:nvPr/>
        </p:nvPicPr>
        <p:blipFill>
          <a:blip r:embed="rId3"/>
          <a:stretch/>
        </p:blipFill>
        <p:spPr>
          <a:xfrm>
            <a:off x="4913280" y="1762200"/>
            <a:ext cx="40179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ЛОКАЛИЗ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1840" y="1466640"/>
            <a:ext cx="493884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Мезијални инцизални уга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екутића чешће подлеже оштећењу него дистал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бог анатомо-морфолошког облика секутића, јер мезијални инцизални угао има карактер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штрог угла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 дистални је заобљен и заклапа туп уг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12" descr="cetvrtaKlasa02"/>
          <p:cNvPicPr/>
          <p:nvPr/>
        </p:nvPicPr>
        <p:blipFill>
          <a:blip r:embed="rId1"/>
          <a:stretch/>
        </p:blipFill>
        <p:spPr>
          <a:xfrm>
            <a:off x="5508720" y="1700280"/>
            <a:ext cx="3267000" cy="23065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3" descr="cetvrtaKlasaNovi"/>
          <p:cNvPicPr/>
          <p:nvPr/>
        </p:nvPicPr>
        <p:blipFill>
          <a:blip r:embed="rId2"/>
          <a:stretch/>
        </p:blipFill>
        <p:spPr>
          <a:xfrm>
            <a:off x="5508720" y="4240080"/>
            <a:ext cx="326700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РЕТЕНЦИЈ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21840" y="1466640"/>
            <a:ext cx="614052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еличине оштећ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естибуло-оралног промера зуб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Близине пулп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Загрижаја пацијен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2" descr="Rezultat slika za incisal filling retention"/>
          <p:cNvPicPr/>
          <p:nvPr/>
        </p:nvPicPr>
        <p:blipFill>
          <a:blip r:embed="rId1"/>
          <a:stretch/>
        </p:blipFill>
        <p:spPr>
          <a:xfrm>
            <a:off x="5884920" y="1246320"/>
            <a:ext cx="2584440" cy="2657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25"/>
          <p:cNvPicPr/>
          <p:nvPr/>
        </p:nvPicPr>
        <p:blipFill>
          <a:blip r:embed="rId2"/>
          <a:stretch/>
        </p:blipFill>
        <p:spPr>
          <a:xfrm>
            <a:off x="4454640" y="4124160"/>
            <a:ext cx="4014720" cy="2529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Rezultat slika za incisal bite"/>
          <p:cNvPicPr/>
          <p:nvPr/>
        </p:nvPicPr>
        <p:blipFill>
          <a:blip r:embed="rId3"/>
          <a:stretch/>
        </p:blipFill>
        <p:spPr>
          <a:xfrm>
            <a:off x="210960" y="4262400"/>
            <a:ext cx="40291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РЕТЕНЦИЈ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1840" y="1466640"/>
            <a:ext cx="566892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нцизалне тр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ћине предњих зуба у току жвакања изложене су дејству сила које су неповољне за стабилност испуна и теже да га истисну у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естибуло-оралном и апроксималном смер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2" descr="Before"/>
          <p:cNvPicPr/>
          <p:nvPr/>
        </p:nvPicPr>
        <p:blipFill>
          <a:blip r:embed="rId1"/>
          <a:stretch/>
        </p:blipFill>
        <p:spPr>
          <a:xfrm>
            <a:off x="576360" y="4316400"/>
            <a:ext cx="3525840" cy="2116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image"/>
          <p:cNvPicPr/>
          <p:nvPr/>
        </p:nvPicPr>
        <p:blipFill>
          <a:blip r:embed="rId2"/>
          <a:stretch/>
        </p:blipFill>
        <p:spPr>
          <a:xfrm>
            <a:off x="6454800" y="2936880"/>
            <a:ext cx="230652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РЕТЕНЦИЈ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2200" y="1466640"/>
            <a:ext cx="509112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нцизална ивица доњих секутића при жвакању врши притисак на палатиналну површину горњих секутић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ила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чији је правац продужетак уздужне осовине доњих секутића разлаже се на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озитивну силу 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oja је усмерена аксијално у односу на горње секутиће и н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негативну силу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управну на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илу 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која делује вестибулар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Ако испун нема ретенцију помера га вестибулар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1"/>
          <a:stretch/>
        </p:blipFill>
        <p:spPr>
          <a:xfrm>
            <a:off x="5770440" y="1649520"/>
            <a:ext cx="316080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РЕТЕНЦИЈ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21840" y="1466640"/>
            <a:ext cx="853452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и сечењу хране доњи секутићи инцизалном ивицом притискају инцизалну ивицу горњих секутић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ила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оја оптерећује инцизални руб испуна разлаже се н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позитивну силу 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негативну силу 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ео притиска преноси се на базу А1-В1 гингивног зида негативне силе теже да изврну испун око тачке А1 која нема базу у гингивном зиду делују као полуга изазивајући одвајање испу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1" descr=""/>
          <p:cNvPicPr/>
          <p:nvPr/>
        </p:nvPicPr>
        <p:blipFill>
          <a:blip r:embed="rId1"/>
          <a:stretch/>
        </p:blipFill>
        <p:spPr>
          <a:xfrm>
            <a:off x="2446200" y="3936960"/>
            <a:ext cx="416880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ОБЛИК КАВИТЕТ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21840" y="1466640"/>
            <a:ext cx="853452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Оклузије и артикула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равца и интензитета деловања си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олумена пулп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Облика зу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Истрошености зуба -абраз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sD14 copy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7T11:23:28Z</dcterms:created>
  <dc:creator>Miloš Papić</dc:creator>
  <dc:description/>
  <dc:language>en-US</dc:language>
  <cp:lastModifiedBy>Miloš Papić</cp:lastModifiedBy>
  <dcterms:modified xsi:type="dcterms:W3CDTF">2017-08-25T16:42:30Z</dcterms:modified>
  <cp:revision>510</cp:revision>
  <dc:subject/>
  <dc:title>Каријес зуба</dc:title>
</cp:coreProperties>
</file>